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B47-C572-487D-8D9A-47CD54D0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7FA-6E04-4C27-B5F6-7441B0E3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C76-2496-47C1-BDC5-C0874E1F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752-5D3F-42F8-83C1-46C6B069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2B133-39EA-451D-B05F-5403AB7D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891BE-1905-41A5-A91C-069476DC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70D19-E391-47FE-A6FC-B2C5B82E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0220E-D62E-4851-A467-AD2E15C8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A8503-E285-4B1B-A28D-94BC8DC3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7B8A7-B417-4F0B-8CD8-85E0E69A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F7440-7F0B-4C4E-9C9E-848DAB1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824-439E-4F79-AEF7-68F34603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1F288-3331-4E0A-9F42-1FAF0B06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46263-EE24-4722-9CF7-202B1E61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F7C34-9686-451B-AB02-299CB40C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A8DA6-E3B1-4C1B-BECC-9BFC5C6C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D56F1-0796-4331-AC03-A3BD8DC3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3DD-937F-4A9B-94C2-A19F13E0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BFF-0E00-482A-99E2-38F70F32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466-0CD7-4223-B1C8-09CD9A3C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EAF-C7E5-4DE6-8FF5-88880F76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FA8-5901-4D96-A47F-D6129F13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441-6002-42AA-B644-85B25C3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72E-1A9A-449E-8CFA-C477D644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07BB-DC47-4BB1-A979-B1B63B8614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D2F4-0696-489A-A187-447D8C2FFC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952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DNA finger pr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restriction enzymes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restriction enzymes used in DNA finger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08:16Z</dcterms:created>
  <dc:creator>URI</dc:creator>
  <dc:description/>
  <dc:language>en-US</dc:language>
  <cp:lastModifiedBy>URI</cp:lastModifiedBy>
  <dcterms:modified xsi:type="dcterms:W3CDTF">2009-12-22T22:09:11Z</dcterms:modified>
  <cp:revision>3</cp:revision>
  <dc:subject/>
  <dc:title>Slide 1</dc:title>
</cp:coreProperties>
</file>